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8.jpeg" ContentType="image/jpeg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44C-5450-4B3B-BA8A-2ACE2AE5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A6B-FAEA-4AF5-8C8C-781529B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249DA-6784-48E3-8B3F-5FC6F035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F1F3C-4686-4E5C-BA76-A508AC3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51881-D9A5-46E1-A166-557C58EA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E0741-8DE8-43F1-9265-27760D02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9034F-EC14-4321-9576-CE05EC4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70B37-3637-4B9E-B93F-C7E6CF1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C2739-CF05-46A0-82C3-0C4DD14C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A3C8E-C6FB-4D4C-86E1-660ECD24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D3935-2821-4C68-8484-C08A3BB3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24168-996A-4FD0-95B1-945CF789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6D9-1510-44BB-93E2-28B87EAC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3A6AB-206E-42FB-ACC9-E6F7CD0B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69CE9-AD89-4FA9-9F7D-0032CF5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18577-1C5F-4C9C-B5A1-3842EC8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0D10E-B479-4DE7-92F3-B4378E0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60A0F-E053-4DE8-8C1A-7466653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F416A-E58D-49F5-A030-824DAB1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7A7ED-F2AD-4850-84EE-3443AB1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8775-8980-470D-837C-AF72A1F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51F99-F75F-4F0B-9108-8BEC4A10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370D4-A994-4726-ABE2-AB5610DA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9B5-8A98-474C-94F2-8F1D5A36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8E674-BFAF-4E9D-92B2-E8D7C47E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C7372-BB84-4155-B0FD-22B77AAF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30B1-A2E9-4BA8-B80D-1487E7E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895FD-3794-48FA-A0F1-3B051E5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CDA4C-DB89-40BC-AD8F-6F6930B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D4D3-E7B7-47E2-BF20-9F43560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31F8D-2557-40AA-8158-1F2B16C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8DFB-553F-4525-9CAA-3989F5C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DEE7D-F02C-44DE-A026-4FCB06B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70F4A-0482-48C3-AA76-BF7F1EC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2CA0-228A-4DBB-9BBD-078EAFA9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D52CE-530E-4ADF-B24E-A5C7E0F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0C5C1-287C-4F89-954E-58F617DB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7A161-BC03-4C34-9374-B2986020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95C0E-7875-45E5-B64E-F7BB85AC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F6E8E-FAB6-4F14-9309-AFD64445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D07B1-8D95-4E6D-B578-4388F176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3FBA-9BB5-4B86-B8E6-F31DF34F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74C8C-FC06-4657-B7FF-A2B593EF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6CB85-62DA-4F27-A4F8-256C402D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8B754-2AD1-4665-818B-5FDAB6E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C1A6-3A5C-4E3D-8602-CCB6D3E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AD481-1D01-41B9-905E-7200643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6C2F6-3A2B-45F2-B6B4-00560E3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F366B-E54D-4E45-BDAC-EE6104B2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BD0E8-2718-4AD8-BC86-8A7F3F5C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0BC65-862B-42D5-8B8C-50510F5A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72BA4-F590-444F-9CD4-230CDC50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56444-7B69-460C-924D-81D81C4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0B3E5-B517-48A1-8A3D-80E8004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4C0F6-1AAA-45E2-B69D-28E5479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CC5F7-3C45-45F5-82A0-EA3E8E52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69C7-7FDB-44D1-9924-0A79578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92882-6379-4337-9D18-A8E13DA3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08E85-2171-49F6-BFE5-827E789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86BDF-BDE9-49FB-AB98-3572984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4E267-6252-47C1-94AB-876E56E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DEADE-EB3A-4BB2-A4AB-08DAD0E6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A9E27-7564-471D-9F7D-B0D4955F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3E5F2-AF9F-4CB7-A2C7-D472EB20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0AAD6-381C-4420-81B9-ECADA5A5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FA0AD-2FC8-4B29-9A2B-7E0ECE81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F7EB0-835A-4D2E-A52B-9630BBB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793-5710-40C6-A8BA-05B00BA7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46539-2009-4683-B219-39403D57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CFDC2-DD9E-400F-8D9D-DCD92932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2E538-5D4F-46CB-A750-3506DCC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81CB7-3E4A-42C7-9019-0046837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0D486-2C21-4734-B58E-50D07DE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1DCE7-059D-430A-8BE1-9B63B6D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1706B-8664-4693-B863-EC934447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3C903-20A7-4B4B-9520-4825F9CD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7ACE6-806F-470D-A2E0-5E09D53E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7C819-CE52-45C4-9DDF-C683BA22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0BCC-2ABD-494A-BED0-377A8C44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D13A9-A9A7-42D3-8C3A-2EBF5666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15DE4-5717-4C69-B142-37CC4DC6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FE811-89AD-47FD-A928-EEF626B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E21BB-DF28-4419-A818-F4CBE49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79D100-8CF6-41C9-966F-EBD5DF73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E574A-6BB9-4CFE-9AE9-333F6CA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3C76E-D4A8-4AA8-989E-D01B4C1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F740A-65A8-47E7-850B-03A819E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ED686-F4CA-4FFC-900A-11718BD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43517-A7EA-4F70-B67B-55F6FDFA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1AE8-A403-4888-8DE9-CBB7901E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EE0A4-8246-4651-B246-E4CCCDDB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EA125-8FE8-46FA-BF7D-0E01DDA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AF8B6-3F9A-4CCE-8A36-91F593F0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4DB14-41A3-48B5-8746-3C808993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A8166-6A13-4C41-9447-24ECFDEC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828C3-5DFD-4E5E-9898-0986E4B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31FFD-3A7E-42D4-8DF4-C3B66951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E5EFE-7C5B-49B0-89B7-E212D99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DE2D8-9F61-45D5-AF2B-846C88A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8E70C-9ADF-4262-9CF5-8CC8CFC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162D-ADCE-4145-8C0E-5841B6A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5B2F5-CF59-4A04-964E-BA0C3D1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0A60E-5011-4F1E-AF9C-64F59C4C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B0A5E-BA4E-49E0-85F4-C7916688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9AF17-0C59-4412-989E-511B0BC8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34B6C-E8CE-4CD7-A38E-11062089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ACF7A-B17F-4FDA-BF50-7F1479B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F76EB-E7C6-4814-9DE3-8785720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F3D0E-EE93-4BD6-8BD2-ED462C34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EB6D5-130F-4804-86BC-CB6C9CA4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F358C-73C8-4B92-B103-2E6C9484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89E-F8B2-4149-9431-CC7CB3F5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4A34-5091-4557-AF75-78649B8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77697-47DD-4CE0-B32E-3099401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01F91-91FF-402B-9CE6-C600D28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40AB8-A2F8-4F9B-A88C-D95165C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19C06-EF8E-40E3-80B9-149D32DB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C8BC2-AEF6-4B70-8D0E-F7D10F8F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BE2CD-AC21-4BD1-ACA6-2BDD3ADD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A4FB1-382F-4BF8-89EF-09E3A7C2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3D490-EA70-42A1-B801-855C88AA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E7B1B-1464-4FC9-897E-CB3CD9D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8BEDD-4047-4118-B359-A42E25C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BFA4-0792-4A45-812D-F7CBB92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9CF3B-9091-4878-B19E-AA72418D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B293C-86D9-452B-90CD-D2BB862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69CE5-021E-487C-90F1-9CCE681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51B52-A121-4C68-9C32-34A84EF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5874F-78E0-4CAC-AD57-A778CC4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A658D-66AE-43A3-BAD0-928CB8CF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A2CBA-B257-4A46-B56B-7CBCA9C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9D6E5-5F01-4C3E-92BF-AA2F336C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911A8-753E-49FF-A338-5A9355FD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D5221-A470-4652-95B9-CEF5CDAC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12B5-377D-46A5-A7E0-1B3A7E3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E13CF-770A-4193-A090-818E10E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5FBF9-5DD4-4156-AD3C-B0A4CE4E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B6B54-21CB-4DD4-BE46-23DE67D7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556D4-467A-4D4D-8C46-17A31031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4326D-3EFC-4D09-9AF7-C7830A7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6A48E-BB05-432A-B259-959A442F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2C830-9A45-4832-8221-6870BEE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6E474-C0F4-4110-8BCA-3B867D33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9855B-DCAA-42D6-A7A8-8E3A4279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0A151-EE43-45E2-8150-E621328D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B7D8-0065-4C3A-9579-61A6B27F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5DDB4-E802-43E7-AD02-4C79C50D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83A3-02C9-4025-A418-9145D471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BFD36-1A4D-473A-BBA3-7BDA476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FFCE5-F001-4AE1-9A73-F000F53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79380-241A-4DA6-8708-4F0A2112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3DBD3-114B-4271-BB37-AC51385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89112-158A-4D98-BC56-DDBE9A4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6EA90-A065-45F2-8BBC-C946806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9B8C5-2904-4470-A3F7-093B12B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7B6E3-E105-4E8E-9181-F828D07B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5E3F-9445-42EC-B849-0AD35DB0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13EDC-7601-4BF4-933A-81266FD3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937AC-CC25-4807-96DF-7826B65D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BFA11-04BB-4092-A252-35B5FFA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B771A-F18E-4B3F-920C-E789ECFB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A7366-56D5-4D4E-B584-2E2EBCD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22D7E-C16B-46ED-A7FC-AC507A1A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03D05-1B76-48EB-AE12-4ADA3541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996B7-C7D5-4910-A24E-0204F6E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1E206-F2A7-4EFB-ACD8-028E8FC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AA1F1-3FA9-40DD-B13A-ACC7528F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880C-5E0A-4ED9-B466-3A1BC991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461E0-2621-4621-8084-C9DFA64D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621BD-6EFB-4908-891A-C3A5DD0A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AE81F-042C-4F7D-BE82-E52CDA22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1FC511-BC00-41C8-A45C-36DFFF80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2C86D-C573-4790-887F-FAF3C13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BF2FA-CAD7-4CA1-BC53-A3757A8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C0B9E-CA84-40A9-8431-E286BEDD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1A6E2-E60F-4608-9AA9-446CB3B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8C324B-828A-44EF-B53F-6C4E8924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FB5A8C-FBAF-40D3-B522-67B5DFD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8316-395B-49E0-B816-AED2DCE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DE2778-67C0-4068-AB20-4C38DDE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EFB3D-15B4-4C3B-BE05-C441A88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35B522-5FD2-4684-94BE-FD5A5766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5A866-FC1F-4B3D-983A-468D99B6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71F49-2B46-47C5-B41F-6EED171F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5578B2-8BBC-48F4-81F9-08BF3F98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E97A8-D16A-4A1D-B129-6662259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153B7-24A8-4A28-8834-D0D4AF2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A0B70E-10D9-4920-A9F2-A8ACEF92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14775-2AE4-48EE-A443-607F92DF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71CD-716E-4245-80AD-82584353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D02616-2FFD-4617-94E1-0B936E86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BDEDC-1269-4C54-8A12-693D5ED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48F9B7-4517-45E4-9077-9048EA0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E80A9E-C67F-438B-8563-A97D393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55B604-9D3F-4711-AE66-D6091E04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42AF69-ED42-4784-81D1-5E881C8C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48024-40DE-4C19-AC26-20CD6E0F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3F4F7B-3FE2-4E50-A73F-D0EC759C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968BFB-7EA0-454B-A3F3-AFF8CE18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2924A0-5864-424B-8CDA-AF1EB82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8402-20A1-4862-A531-0850E6C3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C0F47E-E18A-4166-89B3-B26306A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1A0D6-C019-4193-8CE7-5BD67978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08274-5833-47FC-9858-176259EE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6D148-11B0-476E-AE1A-87CA6AD6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0FC904-7447-4138-8CCD-CBEBFDB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2FCC7D-B30E-4518-9C1C-596C814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F0E9D-47B7-4E59-A2C6-22562B5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60E096-3417-4A62-A82C-DDCF3EAE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D5169-4E1B-4E85-BA3C-04530641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D856-0CE9-42B2-9122-6A4F3B3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979-443D-4363-8EA1-F3F54AF8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E0DD-398E-4DCC-81F2-863BD61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E881-B30A-4EE6-8201-C969D46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823E-E80F-411A-B9DB-0306291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26D4-2A90-4294-BF76-3D6F641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57FE-A58D-41B0-B6D7-8AAD5D1F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3503-A1EA-416E-8360-96697650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4C08-6E98-4FCC-B853-C7AC6586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3AF7-87E6-442F-8A0E-A8D09B66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0AD1-8FFD-4B94-8378-0D24A7E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C080-659B-422B-BE9E-95573FD0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E22-FB39-4858-A8F6-9DBD21A5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6D8C-15C0-4211-ABC8-2302B2C6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3AAE-6203-4DCC-9329-CFFD4E5C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E796-6797-45C8-8B23-7F877805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544F-373A-4E4E-AE35-AAA7639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3F3D-0F0A-4D18-918B-19311A3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6D15-B9BB-402D-8306-40D6BB47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4D61-34CC-4CEC-850B-1EEE5F66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4EA2-9162-4AB7-9F08-58F55404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BC46-EC6C-4E78-A8E3-DDCDF7C7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2493-16D1-41F5-8393-C2E3BA5D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131-6BFC-42DD-B740-EE087CD7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4723-7247-406F-B3A6-1D4729EE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B903D-3C4D-4946-B39E-4FDDBCD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687A-CA12-4DD4-A559-A011359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3C7D1-5827-476E-9CBA-AC0E27DF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863B-037C-47F3-A700-3461D55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1B36-DAFB-4304-BBA2-EC73896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2226-D534-4CD2-B9BE-009DBEA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2957D-A403-4375-917E-6F26858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D65A-5AD0-4BC2-B1F6-ED5F9A0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B0F8-FDB7-417E-9BAD-F57D603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E61-98A3-46E8-8163-9D01352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75CC-E8E7-4904-92F7-A97CC8FD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6ADD-1334-4922-9D47-89F84AD8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572E-B212-48D8-B107-85294808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3648-F1CF-4B1E-83AD-DC9069C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66616-8C2D-49DD-882B-94753BCC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31D2-4B1B-44D5-B064-550B4BDE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C8554-E580-409F-A3E7-188B8A70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9BFF6-957E-4314-B3F5-C9C7713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88CDC-F47C-4C2A-B5E7-2BBF212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A25F-5CE0-4C27-AE2E-92A4B83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4FE-BC64-4BF6-89A3-174BB4E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5CAA-A813-40A7-A355-F3598BE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22854-F616-4527-9C8C-AED99E49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B8345-0E5E-4A72-8C83-CD591065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E1B1-399B-43B9-9495-454F5D40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8109-5C5C-42C5-80CD-1CA8064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A3EA-8A9B-4B3C-96E2-9A80A42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DFB6-C5E3-4FC6-9257-85924D92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2299C-C94B-44D7-918E-FD87A45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99B8-776B-4360-8B07-0EE9BA10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098DA-0EBD-4F06-AD30-9F117A96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9E9-54F5-4E6A-AC32-0A6BF99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DFDF-766F-486F-9916-8C5925C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4B16C-40AF-4315-8D67-91170CF0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57467-E266-42A6-842A-B2948FB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AE3B0-3644-45E0-95B9-EEF447BB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C07D-967F-443C-BEA8-DF364EAE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65CB-05F6-47EE-AE0F-1D0B819C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987DE-7AF6-4948-B41C-333209A7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7AEC8-C5C8-43DF-AFDC-B451C5B9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94CB-0D74-45B7-AE9E-CC5088D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1E85-2B51-4372-A398-1144535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246-30AE-44C3-AEA1-433D2A6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9D130-659C-4A7B-9AE3-CB38A98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3F3E-7F47-405E-9892-3AECCCA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DDF4F-A1CE-4F31-AA87-4CEE54FF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43DE-35F3-4558-BE03-DAED92B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64528-14FF-42AB-AD8B-C62712B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D86DC-9151-4C5A-9372-FA3C9FD8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21F1-814A-41D4-9FE1-5DD4B51F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4D4E0-5FF8-4489-B7BA-5BE6E4FB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67AC8-C5A4-4017-AFC3-197586D0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7182-BDB3-47A0-928F-654D063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0E2-6039-487A-9C5A-4BC2162BB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3795-C0D6-44EE-BB2F-095E4978C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EE6C-CD7F-48E7-AE54-62CA2015DC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3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1E50-CAAA-4F79-A64F-AC37BDD7F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3B69-0FE5-48D9-9CEB-B3CD438D8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812-928C-490B-910C-E2021A45F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BBA-3574-4A70-BEAF-CAAE5BB4189B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49E-45D1-4EA8-BAEF-26F180F09536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5D2A-A250-4673-9397-AAB34B66E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0B22-E90F-485A-8828-87E3A61F0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E276-3AB2-43D9-908C-E894D886514F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047-1EC4-431B-B2F9-5E28336C1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2B2F-6A4D-4FF2-8BDA-D19D91ABF4DF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9F4-E9FA-45D8-9961-EFF2DE2FA0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2FB-17AF-4C80-8677-7A7DDCE6AC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0A3-E6EB-4EB7-9E17-E11BFE919481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0F94-FA1E-4D48-93A3-DE4E2361059B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82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AF5-7AD5-4DAC-9273-1F4C891DB62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8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1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EC1-A4BF-4EEA-A5FD-924A4FDDAD6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A06E-539B-4A06-AFD7-AFFA4630A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E6EB-D218-4A03-9344-5AB1B05F8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C84F-306B-4086-B0A4-25489786661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3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8C98-80D7-4328-B517-C716B4907BA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A284-1A27-443B-9DB0-3DD84163F0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unkerdownusa.files.wordpress.com/2009/06/campbells-soup-i-chicken-noodle-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b0AGiq9j_Ak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 Bold"/>
              </a:rPr>
              <a:t>Advertising Slogan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 Bold"/>
              </a:rPr>
              <a:t>Write your answers down and KEEP THEM TO YOURSELF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Hungry? Why Wait?”</a:t>
            </a:r>
            <a:br>
              <a:rPr sz="8800"/>
            </a:b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or</a:t>
            </a:r>
            <a:br>
              <a:rPr sz="8800"/>
            </a:b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“Satisfies”</a:t>
            </a:r>
            <a:endParaRPr b="0" lang="en-US" sz="88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5848200"/>
            <a:ext cx="7772400" cy="247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ffffff"/>
                </a:solidFill>
                <a:latin typeface="Chalkboard Bold"/>
              </a:rPr>
              <a:t>Snap, Crackle, Pop”</a:t>
            </a:r>
            <a:endParaRPr b="0" lang="en-US" sz="8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5848200"/>
            <a:ext cx="7772400" cy="2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14920" y="652464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acesnsoles.com/store2/images/categories/Nike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65040" y="629604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unkerdownusa.files.wordpress.com/2009/06/campbells-soup-i-chicken-noodle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1968-premium-giclee-printc1298561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289440" y="652464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lhmt.com/Q/FrostedFlakes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9480" y="6400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ootballfire.files.wordpress.com/2008/11/playstation-logo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halkboard Bold"/>
                <a:hlinkClick r:id="rId2"/>
              </a:rPr>
              <a:t>"Be Like Mike"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48080" y="6067440"/>
            <a:ext cx="86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laytonguiltner.files.wordpress.com/2007/11/gatorad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200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000000"/>
                </a:solidFill>
                <a:latin typeface="Chalkboard Bold"/>
              </a:rPr>
              <a:t>Just Do It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5190840"/>
            <a:ext cx="7772400" cy="904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Chalkboard Bold"/>
              </a:rPr>
              <a:t>“</a:t>
            </a:r>
            <a:r>
              <a:rPr b="0" i="1" lang="en-US" sz="8800" spc="-1" strike="noStrike">
                <a:solidFill>
                  <a:srgbClr val="ffffff"/>
                </a:solidFill>
                <a:latin typeface="Chalkboard Bold"/>
              </a:rPr>
              <a:t>Mm, Mm Good. Mm, Mm Good.”</a:t>
            </a:r>
            <a:endParaRPr b="0" i="1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7760" y="557532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halkboard Bold"/>
              </a:rPr>
              <a:t>“</a:t>
            </a:r>
            <a:r>
              <a:rPr b="0" lang="en-US" sz="8000" spc="-1" strike="noStrike">
                <a:solidFill>
                  <a:srgbClr val="ffffff"/>
                </a:solidFill>
                <a:latin typeface="Chalkboard Bold"/>
              </a:rPr>
              <a:t>They’re GRRRRRRREAT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5767560"/>
            <a:ext cx="7772400" cy="328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65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de2c4"/>
                </a:solidFill>
                <a:latin typeface="Chalkboard Bold"/>
              </a:rPr>
              <a:t>“</a:t>
            </a:r>
            <a:r>
              <a:rPr b="0" i="1" lang="en-US" sz="8000" spc="-1" strike="noStrike">
                <a:solidFill>
                  <a:srgbClr val="fde2c4"/>
                </a:solidFill>
                <a:latin typeface="Chalkboard Bold"/>
              </a:rPr>
              <a:t>Live in your world, play in ours.”</a:t>
            </a:r>
            <a:endParaRPr b="0" i="1" lang="en-US" sz="8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5692320"/>
            <a:ext cx="7772400" cy="327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Is it in you?”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or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“Be Like Mike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54370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380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alkboard Bold"/>
              </a:rPr>
              <a:t>“</a:t>
            </a:r>
            <a:r>
              <a:rPr b="1" lang="en-US" sz="8800" spc="-1" strike="noStrike">
                <a:solidFill>
                  <a:srgbClr val="000000"/>
                </a:solidFill>
                <a:latin typeface="Chalkboard Bold"/>
              </a:rPr>
              <a:t>I’m Lovin’ It”</a:t>
            </a:r>
            <a:endParaRPr b="1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5684760"/>
            <a:ext cx="7772400" cy="41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43a1b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343a1b"/>
                </a:solidFill>
                <a:latin typeface="Chalkboard Bold"/>
              </a:rPr>
              <a:t>Maybe she’s born with it, maybe it’s______”</a:t>
            </a:r>
            <a:endParaRPr b="0" lang="en-US" sz="88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579096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Chalkboard Bold"/>
              </a:rPr>
              <a:t>“</a:t>
            </a:r>
            <a:r>
              <a:rPr b="1" lang="en-US" sz="8800" spc="-1" strike="noStrike">
                <a:solidFill>
                  <a:srgbClr val="ffff66"/>
                </a:solidFill>
                <a:latin typeface="Chalkboard Bold"/>
              </a:rPr>
              <a:t>They’re magically delicious”</a:t>
            </a:r>
            <a:endParaRPr b="1" lang="en-US" sz="8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5767560"/>
            <a:ext cx="7772400" cy="32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4:20:04Z</dcterms:created>
  <dc:creator>Tech Services</dc:creator>
  <dc:description/>
  <dc:language>en-US</dc:language>
  <cp:lastModifiedBy>Tech Services</cp:lastModifiedBy>
  <dcterms:modified xsi:type="dcterms:W3CDTF">2010-01-13T17:22:53Z</dcterms:modified>
  <cp:revision>10</cp:revision>
  <dc:subject/>
  <dc:title>Advertising Slogan Quiz</dc:title>
</cp:coreProperties>
</file>